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7.jpeg" ContentType="image/jpeg"/>
  <Override PartName="/ppt/media/image3.png" ContentType="image/png"/>
  <Override PartName="/ppt/media/image26.png" ContentType="image/png"/>
  <Override PartName="/ppt/media/image4.png" ContentType="image/png"/>
  <Override PartName="/ppt/media/image13.jpeg" ContentType="image/jpeg"/>
  <Override PartName="/ppt/media/image27.jpeg" ContentType="image/jpeg"/>
  <Override PartName="/ppt/media/image10.png" ContentType="image/png"/>
  <Override PartName="/ppt/media/image6.jpeg" ContentType="image/jpeg"/>
  <Override PartName="/ppt/media/image5.png" ContentType="image/png"/>
  <Override PartName="/ppt/media/image29.jpeg" ContentType="image/jpeg"/>
  <Override PartName="/ppt/media/image8.png" ContentType="image/png"/>
  <Override PartName="/ppt/media/image14.jpeg" ContentType="image/jpeg"/>
  <Override PartName="/ppt/media/image7.png" ContentType="image/png"/>
  <Override PartName="/ppt/media/image30.jpeg" ContentType="image/jpeg"/>
  <Override PartName="/ppt/media/image11.png" ContentType="image/png"/>
  <Override PartName="/ppt/media/image9.jpeg" ContentType="image/jpeg"/>
  <Override PartName="/ppt/media/image2.png" ContentType="image/png"/>
  <Override PartName="/ppt/media/image19.jpeg" ContentType="image/jpeg"/>
  <Override PartName="/ppt/media/image25.png" ContentType="image/png"/>
  <Override PartName="/ppt/media/image1.wmf" ContentType="image/x-wmf"/>
  <Override PartName="/ppt/media/image15.jpeg" ContentType="image/jpeg"/>
  <Override PartName="/ppt/media/image16.jpeg" ContentType="image/jpeg"/>
  <Override PartName="/ppt/media/image18.jpeg" ContentType="image/jpeg"/>
  <Override PartName="/ppt/media/image20.png" ContentType="image/png"/>
  <Override PartName="/ppt/media/image28.jpeg" ContentType="image/jpeg"/>
  <Override PartName="/ppt/media/image21.png" ContentType="image/png"/>
  <Override PartName="/ppt/media/image12.png" ContentType="image/png"/>
  <Override PartName="/ppt/media/image23.jpeg" ContentType="image/jpeg"/>
  <Override PartName="/ppt/media/image24.jpeg" ContentType="image/jpeg"/>
  <Override PartName="/ppt/media/image2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B9BD7-6884-4BFD-BEC2-119DA8771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7B4B1-E304-45B8-8CFA-F065618E2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5D230-649B-4D44-9323-B14DAD946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6BF69-D95A-463B-AC5E-4A69EA289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8C4FF-EF47-4120-9548-2C16B334C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6F8C8-D212-4510-9A6E-7397039FA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A7FCD-F124-4E1B-8F28-85BFCE407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E4D0B-874D-4ECA-B59E-75789AE6C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ACD1E-7C59-426B-AA3F-AB4CD7CF6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D8A94-82F5-4C38-BFA2-EAE565D4D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CC5DD-1B36-4754-A4F4-954732374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940BE-FD7F-4455-90B5-B58CD20BC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701B6-08DD-445E-A3DC-7A608C92F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6FCA8-C4F1-40A8-8786-2353E02B9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3651D-C0C7-4017-9266-A8C6CF71F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CF066-B1FA-4E96-9EEC-0A58D8D36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29577-BE8F-4F49-A8DD-7B836636B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DA9D53-FEF9-41AB-B23E-9CAD951DBF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0D406B-FBA1-4E86-89B0-D16B0045F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62707A-5660-4EF7-AEFB-7B9EC8763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BBF7F8-E021-4ED3-94CD-9B380BC6F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2DD86-BFC9-4121-9CDD-F279337E59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C0E54-D6A1-4C83-AEAA-E1F0F73AF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FD69B-E30F-4419-8B53-871D24F9B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C8B44-D8D9-45CE-8CB7-96AA43840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B1B33-3706-48CF-82A7-32188D470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26584-C457-4AD6-BAA8-2C3945338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30CFD-A353-4E75-A5EF-0EF8676FA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DD0D9D-7A85-494F-A4AE-E5A4ED7DDB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70C3AE-1684-4EA4-B8C6-DF13FDF8E3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96B87-51F1-4B78-8167-098DD7F25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F1E6A-4C6B-40FC-B8CC-8A4BDE561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3B085-E347-47E5-BF14-9719D6C9E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CE16B-DB4D-4229-929C-88ABB9CDE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3A282-BC07-47DB-B278-58C63FA02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EA92F-DCD7-4FC1-9616-0CCDE6E3C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4139-D172-458A-A171-CA60BCFDA7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CD5B-5CA1-4C96-9AC4-F9BFCE4638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CD26-5338-4F0A-B706-894E426EF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gSKyLMUz8RA" TargetMode="External"/><Relationship Id="rId3" Type="http://schemas.openxmlformats.org/officeDocument/2006/relationships/hyperlink" Target="http://brogdonhiphop.blogspot.com/2009/11/how-to-use-picture-for-graffiti-fill-in.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newsletter.kokodatreks.com/007-january_2008.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19240" y="227160"/>
            <a:ext cx="7476840" cy="5868720"/>
          </a:xfrm>
          <a:prstGeom prst="rect">
            <a:avLst/>
          </a:prstGeom>
          <a:ln w="0">
            <a:noFill/>
          </a:ln>
        </p:spPr>
      </p:pic>
      <p:sp>
        <p:nvSpPr>
          <p:cNvPr id="233" name=""/>
          <p:cNvSpPr/>
          <p:nvPr/>
        </p:nvSpPr>
        <p:spPr>
          <a:xfrm>
            <a:off x="900000" y="5516640"/>
            <a:ext cx="748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Graffiti – Art or Vandalism?</a:t>
            </a:r>
            <a:endParaRPr b="0" lang="en-US" sz="3600" spc="-1" strike="noStrike">
              <a:solidFill>
                <a:srgbClr val="000000"/>
              </a:solidFill>
              <a:latin typeface="Arial"/>
            </a:endParaRPr>
          </a:p>
        </p:txBody>
      </p:sp>
      <p:sp>
        <p:nvSpPr>
          <p:cNvPr id="234" name=""/>
          <p:cNvSpPr/>
          <p:nvPr/>
        </p:nvSpPr>
        <p:spPr>
          <a:xfrm>
            <a:off x="684360" y="6308640"/>
            <a:ext cx="748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apted from: http://www.zunal.com/tasks.php?w=39059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are going to explore, investigate, and evaluate different types of graffiti and artis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94920" y="1598760"/>
            <a:ext cx="69850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irs, small group or whole cla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set of criteria for judging i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is </a:t>
            </a:r>
            <a:r>
              <a:rPr b="1" lang="en-US" sz="3200" spc="-1" strike="noStrike">
                <a:solidFill>
                  <a:srgbClr val="ff0066"/>
                </a:solidFill>
                <a:latin typeface="Arial"/>
              </a:rPr>
              <a:t>ART</a:t>
            </a:r>
            <a:r>
              <a:rPr b="0" lang="en-US" sz="3200" spc="-1" strike="noStrike">
                <a:solidFill>
                  <a:srgbClr val="000000"/>
                </a:solidFill>
                <a:latin typeface="Arial"/>
              </a:rPr>
              <a:t> or </a:t>
            </a:r>
            <a:r>
              <a:rPr b="1" lang="en-US" sz="3200" spc="-1" strike="noStrike">
                <a:solidFill>
                  <a:srgbClr val="ff0066"/>
                </a:solidFill>
                <a:latin typeface="Arial"/>
              </a:rPr>
              <a:t>VANDALISM</a:t>
            </a:r>
            <a:endParaRPr b="0" lang="en-US" sz="3200" spc="-1" strike="noStrike">
              <a:solidFill>
                <a:srgbClr val="000000"/>
              </a:solidFill>
              <a:latin typeface="Arial"/>
            </a:endParaRPr>
          </a:p>
        </p:txBody>
      </p:sp>
      <p:sp>
        <p:nvSpPr>
          <p:cNvPr id="259"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following pict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ach picture, make a judgmen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s it ar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s it vandal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2" name="" descr=""/>
          <p:cNvPicPr/>
          <p:nvPr/>
        </p:nvPicPr>
        <p:blipFill>
          <a:blip r:embed="rId1"/>
          <a:stretch/>
        </p:blipFill>
        <p:spPr>
          <a:xfrm>
            <a:off x="4284720" y="3716280"/>
            <a:ext cx="2951280" cy="26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4" name="" descr=""/>
          <p:cNvPicPr/>
          <p:nvPr/>
        </p:nvPicPr>
        <p:blipFill>
          <a:blip r:embed="rId1"/>
          <a:stretch/>
        </p:blipFill>
        <p:spPr>
          <a:xfrm>
            <a:off x="826920" y="1268280"/>
            <a:ext cx="6048720" cy="4753080"/>
          </a:xfrm>
          <a:prstGeom prst="rect">
            <a:avLst/>
          </a:prstGeom>
          <a:ln w="0">
            <a:noFill/>
          </a:ln>
        </p:spPr>
      </p:pic>
      <p:sp>
        <p:nvSpPr>
          <p:cNvPr id="265"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67" name="" descr=""/>
          <p:cNvPicPr/>
          <p:nvPr/>
        </p:nvPicPr>
        <p:blipFill>
          <a:blip r:embed="rId1"/>
          <a:stretch/>
        </p:blipFill>
        <p:spPr>
          <a:xfrm>
            <a:off x="263520" y="1598760"/>
            <a:ext cx="7386480" cy="4497120"/>
          </a:xfrm>
          <a:prstGeom prst="rect">
            <a:avLst/>
          </a:prstGeom>
          <a:ln w="0">
            <a:noFill/>
          </a:ln>
        </p:spPr>
      </p:pic>
      <p:sp>
        <p:nvSpPr>
          <p:cNvPr id="268"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70" name="" descr=""/>
          <p:cNvPicPr/>
          <p:nvPr/>
        </p:nvPicPr>
        <p:blipFill>
          <a:blip r:embed="rId1"/>
          <a:stretch/>
        </p:blipFill>
        <p:spPr>
          <a:xfrm>
            <a:off x="263520" y="1598760"/>
            <a:ext cx="7386480" cy="4497120"/>
          </a:xfrm>
          <a:prstGeom prst="rect">
            <a:avLst/>
          </a:prstGeom>
          <a:ln w="0">
            <a:noFill/>
          </a:ln>
        </p:spPr>
      </p:pic>
      <p:sp>
        <p:nvSpPr>
          <p:cNvPr id="271"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263520" y="1598760"/>
            <a:ext cx="7386480" cy="4497120"/>
          </a:xfrm>
          <a:prstGeom prst="rect">
            <a:avLst/>
          </a:prstGeom>
          <a:ln w="0">
            <a:noFill/>
          </a:ln>
        </p:spPr>
      </p:pic>
      <p:sp>
        <p:nvSpPr>
          <p:cNvPr id="27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74" name=""/>
          <p:cNvSpPr/>
          <p:nvPr/>
        </p:nvSpPr>
        <p:spPr>
          <a:xfrm>
            <a:off x="4356000" y="6216120"/>
            <a:ext cx="338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ier Lane - Melbou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77" name="" descr=""/>
          <p:cNvPicPr/>
          <p:nvPr/>
        </p:nvPicPr>
        <p:blipFill>
          <a:blip r:embed="rId1"/>
          <a:stretch/>
        </p:blipFill>
        <p:spPr>
          <a:xfrm>
            <a:off x="263520" y="1598760"/>
            <a:ext cx="7386480" cy="4497120"/>
          </a:xfrm>
          <a:prstGeom prst="rect">
            <a:avLst/>
          </a:prstGeom>
          <a:ln w="0">
            <a:noFill/>
          </a:ln>
        </p:spPr>
      </p:pic>
      <p:sp>
        <p:nvSpPr>
          <p:cNvPr id="278"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63520" y="1598760"/>
            <a:ext cx="7386480" cy="4497120"/>
          </a:xfrm>
          <a:prstGeom prst="rect">
            <a:avLst/>
          </a:prstGeom>
          <a:ln w="0">
            <a:noFill/>
          </a:ln>
        </p:spPr>
      </p:pic>
      <p:sp>
        <p:nvSpPr>
          <p:cNvPr id="28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1"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263520" y="1598760"/>
            <a:ext cx="7386480" cy="4497120"/>
          </a:xfrm>
          <a:prstGeom prst="rect">
            <a:avLst/>
          </a:prstGeom>
          <a:ln w="0">
            <a:noFill/>
          </a:ln>
        </p:spPr>
      </p:pic>
      <p:sp>
        <p:nvSpPr>
          <p:cNvPr id="28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4"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start have a pen and paper handy to write down any words you don’t understand.</a:t>
            </a:r>
            <a:endParaRPr b="0" lang="en-US" sz="3200" spc="-1" strike="noStrike">
              <a:solidFill>
                <a:srgbClr val="000000"/>
              </a:solidFill>
              <a:latin typeface="Arial"/>
            </a:endParaRPr>
          </a:p>
        </p:txBody>
      </p:sp>
      <p:sp>
        <p:nvSpPr>
          <p:cNvPr id="236"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37" name="" descr=""/>
          <p:cNvPicPr/>
          <p:nvPr/>
        </p:nvPicPr>
        <p:blipFill>
          <a:blip r:embed="rId2"/>
          <a:stretch/>
        </p:blipFill>
        <p:spPr>
          <a:xfrm>
            <a:off x="2843280" y="3284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358920" y="1598760"/>
            <a:ext cx="7196040" cy="4497120"/>
          </a:xfrm>
          <a:prstGeom prst="rect">
            <a:avLst/>
          </a:prstGeom>
          <a:ln w="0">
            <a:noFill/>
          </a:ln>
        </p:spPr>
      </p:pic>
      <p:sp>
        <p:nvSpPr>
          <p:cNvPr id="28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87"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58920" y="1598760"/>
            <a:ext cx="7196040" cy="4497120"/>
          </a:xfrm>
          <a:prstGeom prst="rect">
            <a:avLst/>
          </a:prstGeom>
          <a:ln w="0">
            <a:noFill/>
          </a:ln>
        </p:spPr>
      </p:pic>
      <p:sp>
        <p:nvSpPr>
          <p:cNvPr id="28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0"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358920" y="1598760"/>
            <a:ext cx="7196040" cy="4497120"/>
          </a:xfrm>
          <a:prstGeom prst="rect">
            <a:avLst/>
          </a:prstGeom>
          <a:ln w="0">
            <a:noFill/>
          </a:ln>
        </p:spPr>
      </p:pic>
      <p:sp>
        <p:nvSpPr>
          <p:cNvPr id="2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3"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263520" y="1598760"/>
            <a:ext cx="7386480" cy="4497120"/>
          </a:xfrm>
          <a:prstGeom prst="rect">
            <a:avLst/>
          </a:prstGeom>
          <a:ln w="0">
            <a:noFill/>
          </a:ln>
        </p:spPr>
      </p:pic>
      <p:sp>
        <p:nvSpPr>
          <p:cNvPr id="29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96"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98" name="" descr=""/>
          <p:cNvPicPr/>
          <p:nvPr/>
        </p:nvPicPr>
        <p:blipFill>
          <a:blip r:embed="rId1"/>
          <a:stretch/>
        </p:blipFill>
        <p:spPr>
          <a:xfrm>
            <a:off x="263520" y="1598760"/>
            <a:ext cx="7386480" cy="4497120"/>
          </a:xfrm>
          <a:prstGeom prst="rect">
            <a:avLst/>
          </a:prstGeom>
          <a:ln w="0">
            <a:noFill/>
          </a:ln>
        </p:spPr>
      </p:pic>
      <p:sp>
        <p:nvSpPr>
          <p:cNvPr id="299" name=""/>
          <p:cNvSpPr/>
          <p:nvPr/>
        </p:nvSpPr>
        <p:spPr>
          <a:xfrm>
            <a:off x="250920" y="6165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250920" y="1413000"/>
            <a:ext cx="738648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gt;&gt; </a:t>
            </a:r>
            <a:r>
              <a:rPr b="1" lang="en-US" sz="3200" spc="-1" strike="noStrike">
                <a:solidFill>
                  <a:srgbClr val="ff0066"/>
                </a:solidFill>
                <a:latin typeface="Arial"/>
              </a:rPr>
              <a:t>What do you think????</a:t>
            </a:r>
            <a:r>
              <a:rPr b="0" lang="en-US" sz="3200" spc="-1" strike="noStrike">
                <a:solidFill>
                  <a:srgbClr val="000000"/>
                </a:solidFill>
                <a:latin typeface="Arial"/>
              </a:rPr>
              <a:t> &lt;&lt;&lt;</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pictur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Vandalis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302" name="" descr=""/>
          <p:cNvPicPr/>
          <p:nvPr/>
        </p:nvPicPr>
        <p:blipFill>
          <a:blip r:embed="rId1"/>
          <a:stretch/>
        </p:blipFill>
        <p:spPr>
          <a:xfrm>
            <a:off x="3276720" y="494172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04" name="PlaceHolder 2"/>
          <p:cNvSpPr>
            <a:spLocks noGrp="1"/>
          </p:cNvSpPr>
          <p:nvPr>
            <p:ph/>
          </p:nvPr>
        </p:nvSpPr>
        <p:spPr>
          <a:xfrm>
            <a:off x="3851280" y="1268280"/>
            <a:ext cx="3798720" cy="4824720"/>
          </a:xfrm>
          <a:prstGeom prst="rect">
            <a:avLst/>
          </a:prstGeom>
          <a:noFill/>
          <a:ln w="0">
            <a:noFill/>
          </a:ln>
        </p:spPr>
        <p:txBody>
          <a:bodyPr lIns="90000" rIns="90000" tIns="46800" bIns="46800" anchor="t">
            <a:normAutofit fontScale="95000"/>
          </a:bodyPr>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Now - venture out into the community and photograph graffiti of you own.</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 </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If you can, take a tape measure and measure the size of the graffiti. What it the area? (height x length)</a:t>
            </a: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06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Does size make a difference if it is classified as Art or Vandalism?</a:t>
            </a:r>
            <a:endParaRPr b="0" lang="en-US" sz="2200" spc="-1" strike="noStrike">
              <a:solidFill>
                <a:srgbClr val="000000"/>
              </a:solidFill>
              <a:latin typeface="Arial"/>
            </a:endParaRPr>
          </a:p>
        </p:txBody>
      </p:sp>
      <p:pic>
        <p:nvPicPr>
          <p:cNvPr id="305" name="" descr=""/>
          <p:cNvPicPr/>
          <p:nvPr/>
        </p:nvPicPr>
        <p:blipFill>
          <a:blip r:embed="rId1"/>
          <a:stretch/>
        </p:blipFill>
        <p:spPr>
          <a:xfrm>
            <a:off x="263520" y="2284560"/>
            <a:ext cx="3616200" cy="312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s examples of graffiti drawing.</a:t>
            </a:r>
            <a:br>
              <a:rPr sz="3200"/>
            </a:b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drawn on MS Paint</a:t>
            </a:r>
            <a:br>
              <a:rPr sz="3200"/>
            </a:b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in MS Paint: "SPRAY"</a:t>
            </a:r>
            <a:br>
              <a:rPr sz="3200"/>
            </a:br>
            <a:br>
              <a:rPr sz="3200"/>
            </a:br>
            <a:br>
              <a:rPr sz="3200"/>
            </a:br>
            <a:endParaRPr b="0" lang="en-US" sz="3200" spc="-1" strike="noStrike">
              <a:solidFill>
                <a:srgbClr val="000000"/>
              </a:solidFill>
              <a:latin typeface="Arial"/>
            </a:endParaRPr>
          </a:p>
        </p:txBody>
      </p:sp>
      <p:sp>
        <p:nvSpPr>
          <p:cNvPr id="307"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are many different types of graffiti, thus not all graffiti has the same style. </a:t>
            </a:r>
            <a:br>
              <a:rPr sz="2800"/>
            </a:br>
            <a:r>
              <a:rPr b="0" lang="en-AU" sz="2800" spc="-1" strike="noStrike">
                <a:solidFill>
                  <a:srgbClr val="000000"/>
                </a:solidFill>
                <a:latin typeface="Arial"/>
              </a:rPr>
              <a:t> </a:t>
            </a:r>
            <a:endParaRPr b="0" lang="en-US" sz="2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me of  the types are:</a:t>
            </a:r>
            <a:br>
              <a:rPr sz="1800"/>
            </a:br>
            <a:br>
              <a:rPr sz="1800"/>
            </a:br>
            <a:r>
              <a:rPr b="0" lang="en-AU" sz="1800" spc="-1" strike="noStrike" u="sng">
                <a:solidFill>
                  <a:srgbClr val="c1c177"/>
                </a:solidFill>
                <a:uFillTx/>
                <a:latin typeface="Arial"/>
                <a:hlinkClick r:id="rId2"/>
              </a:rPr>
              <a:t>Graffiti Blockbusters</a:t>
            </a:r>
            <a:br>
              <a:rPr sz="1800"/>
            </a:br>
            <a:br>
              <a:rPr sz="1800"/>
            </a:br>
            <a:br>
              <a:rPr sz="1800"/>
            </a:br>
            <a:r>
              <a:rPr b="0" lang="en-AU" sz="1800" spc="-1" strike="noStrike" u="sng">
                <a:solidFill>
                  <a:srgbClr val="c1c177"/>
                </a:solidFill>
                <a:uFillTx/>
                <a:latin typeface="Arial"/>
                <a:hlinkClick r:id="rId3"/>
              </a:rPr>
              <a:t>Fill-Ins - Video </a:t>
            </a:r>
            <a:br>
              <a:rPr sz="1800"/>
            </a:br>
            <a:br>
              <a:rPr sz="1800"/>
            </a:br>
            <a:br>
              <a:rPr sz="1800"/>
            </a:br>
            <a:r>
              <a:rPr b="0" lang="en-AU" sz="1800" spc="-1" strike="noStrike">
                <a:solidFill>
                  <a:srgbClr val="000000"/>
                </a:solidFill>
                <a:latin typeface="Arial"/>
              </a:rPr>
              <a:t>Wildstyle Video</a:t>
            </a:r>
            <a:br>
              <a:rPr sz="1800"/>
            </a:br>
            <a:br>
              <a:rPr sz="1800"/>
            </a:br>
            <a:br>
              <a:rPr sz="1800"/>
            </a:br>
            <a:r>
              <a:rPr b="0" lang="en-AU" sz="1800" spc="-1" strike="noStrike">
                <a:solidFill>
                  <a:srgbClr val="000000"/>
                </a:solidFill>
                <a:latin typeface="Arial"/>
              </a:rPr>
              <a:t>Throw-Ups  Video</a:t>
            </a:r>
            <a:br>
              <a:rPr sz="1800"/>
            </a:b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309"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a:t>
            </a:r>
            <a:br>
              <a:rPr sz="2800"/>
            </a:br>
            <a:r>
              <a:rPr b="0" lang="en-US" sz="2800" spc="-1" strike="noStrike">
                <a:solidFill>
                  <a:srgbClr val="000000"/>
                </a:solidFill>
                <a:latin typeface="Arial"/>
              </a:rPr>
              <a:t>Blockbusters</a:t>
            </a:r>
            <a:endParaRPr b="0" lang="en-US" sz="2800" spc="-1" strike="noStrike">
              <a:solidFill>
                <a:srgbClr val="000000"/>
              </a:solidFill>
              <a:latin typeface="Arial"/>
            </a:endParaRPr>
          </a:p>
        </p:txBody>
      </p:sp>
      <p:pic>
        <p:nvPicPr>
          <p:cNvPr id="312" name="" descr=""/>
          <p:cNvPicPr/>
          <p:nvPr/>
        </p:nvPicPr>
        <p:blipFill>
          <a:blip r:embed="rId2"/>
          <a:stretch/>
        </p:blipFill>
        <p:spPr>
          <a:xfrm>
            <a:off x="2916360" y="1557360"/>
            <a:ext cx="4727520" cy="449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39" name="PlaceHolder 2"/>
          <p:cNvSpPr>
            <a:spLocks noGrp="1"/>
          </p:cNvSpPr>
          <p:nvPr>
            <p:ph/>
          </p:nvPr>
        </p:nvSpPr>
        <p:spPr>
          <a:xfrm>
            <a:off x="250920" y="1267920"/>
            <a:ext cx="738648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efini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is the name for images or lettering scratched, scrawled, painted or marked in any manner on propert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is any type of public markings that may appear in the forms of simple written words to elaborate wall paintings. It is also a type of typ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has existed since ancient times, with examples dating back to Ancient Greece and the Roman Empi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l-Ins – </a:t>
            </a:r>
            <a:br>
              <a:rPr sz="2800"/>
            </a:br>
            <a:r>
              <a:rPr b="0" lang="en-US" sz="2800" spc="-1" strike="noStrike">
                <a:solidFill>
                  <a:srgbClr val="000000"/>
                </a:solidFill>
                <a:latin typeface="Arial"/>
              </a:rPr>
              <a:t>Video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15" name="" descr=""/>
          <p:cNvPicPr/>
          <p:nvPr/>
        </p:nvPicPr>
        <p:blipFill>
          <a:blip r:embed="rId2"/>
          <a:stretch/>
        </p:blipFill>
        <p:spPr>
          <a:xfrm>
            <a:off x="2340000" y="1413000"/>
            <a:ext cx="5040360" cy="479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17"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ldstyle </a:t>
            </a:r>
            <a:br>
              <a:rPr sz="2800"/>
            </a:br>
            <a:r>
              <a:rPr b="0" lang="en-AU" sz="2800" spc="-1" strike="noStrike">
                <a:solidFill>
                  <a:srgbClr val="000000"/>
                </a:solidFill>
                <a:latin typeface="Arial"/>
              </a:rPr>
              <a:t>Video</a:t>
            </a:r>
            <a:br>
              <a:rPr sz="2800"/>
            </a:b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318" name="" descr=""/>
          <p:cNvPicPr/>
          <p:nvPr/>
        </p:nvPicPr>
        <p:blipFill>
          <a:blip r:embed="rId2"/>
          <a:stretch/>
        </p:blipFill>
        <p:spPr>
          <a:xfrm>
            <a:off x="2484360" y="1371600"/>
            <a:ext cx="4896000" cy="472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32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ow-Ups  </a:t>
            </a:r>
            <a:br>
              <a:rPr sz="2800"/>
            </a:br>
            <a:r>
              <a:rPr b="0" lang="en-US" sz="2800" spc="-1" strike="noStrike">
                <a:solidFill>
                  <a:srgbClr val="000000"/>
                </a:solidFill>
                <a:latin typeface="Arial"/>
              </a:rPr>
              <a:t>Video</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21" name="" descr=""/>
          <p:cNvPicPr/>
          <p:nvPr/>
        </p:nvPicPr>
        <p:blipFill>
          <a:blip r:embed="rId2"/>
          <a:stretch/>
        </p:blipFill>
        <p:spPr>
          <a:xfrm>
            <a:off x="2916360" y="1197000"/>
            <a:ext cx="4657680" cy="4898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263520" y="1598760"/>
            <a:ext cx="646920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ere we are at the e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a:t>
            </a:r>
            <a:r>
              <a:rPr b="0" lang="en-US" sz="3200" spc="-1" strike="noStrike">
                <a:solidFill>
                  <a:srgbClr val="ff0066"/>
                </a:solidFill>
                <a:latin typeface="Arial"/>
              </a:rPr>
              <a:t>YOU</a:t>
            </a:r>
            <a:r>
              <a:rPr b="0" lang="en-US" sz="3200" spc="-1" strike="noStrike">
                <a:solidFill>
                  <a:srgbClr val="000000"/>
                </a:solidFill>
                <a:latin typeface="Arial"/>
              </a:rPr>
              <a:t> decid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raffiti </a:t>
            </a:r>
            <a:endParaRPr b="0" lang="en-US" sz="32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AR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VANDALISM</a:t>
            </a:r>
            <a:endParaRPr b="0" lang="en-US" sz="3600" spc="-1" strike="noStrike">
              <a:solidFill>
                <a:srgbClr val="000000"/>
              </a:solidFill>
              <a:latin typeface="Arial"/>
            </a:endParaRPr>
          </a:p>
        </p:txBody>
      </p:sp>
      <p:sp>
        <p:nvSpPr>
          <p:cNvPr id="323"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Websites</a:t>
            </a:r>
            <a:endParaRPr b="0" lang="en-US" sz="4000" spc="-1" strike="noStrike">
              <a:solidFill>
                <a:srgbClr val="30605a"/>
              </a:solidFill>
              <a:latin typeface="Arial"/>
            </a:endParaRPr>
          </a:p>
        </p:txBody>
      </p:sp>
      <p:sp>
        <p:nvSpPr>
          <p:cNvPr id="3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logster.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raffiticreator.n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asygraffititext.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oltext.com/Graffiti-Creator-Butt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Texts and Contexts</a:t>
            </a:r>
            <a:endParaRPr b="0" lang="en-US" sz="2400" spc="-1" strike="noStrike">
              <a:solidFill>
                <a:srgbClr val="000000"/>
              </a:solidFill>
              <a:latin typeface="Arial"/>
            </a:endParaRPr>
          </a:p>
        </p:txBody>
      </p:sp>
      <p:graphicFrame>
        <p:nvGraphicFramePr>
          <p:cNvPr id="327" name=""/>
          <p:cNvGraphicFramePr/>
          <p:nvPr/>
        </p:nvGraphicFramePr>
        <p:xfrm>
          <a:off x="263520" y="1268280"/>
          <a:ext cx="8412120" cy="4897440"/>
        </p:xfrm>
        <a:graphic>
          <a:graphicData uri="http://schemas.openxmlformats.org/drawingml/2006/table">
            <a:tbl>
              <a:tblPr/>
              <a:tblGrid>
                <a:gridCol w="2803680"/>
                <a:gridCol w="2805120"/>
                <a:gridCol w="28033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 Reads and views a range of texts containing some ideas and issues of social/cultural interest and more complex text structures and language features and explains possible reasons for different interpretations of text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3 Reads and views a range of texts containing multiple social and cultural perspectives and examines personal and diverse understandings of the contemporary worl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3 Reads and views a range of texts containing challenging ideas and issues and multiple views of the past, present and future and examines some relationships between texts, contexts, readers and producers of text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67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including examining past, present and future perspectives (eg in discussion groups, reading to the aged in the community) [F] [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texts in a variety of ways (eg takes notes, presents a report, conducts a survey, discusses photographs) [Id] [T]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erges and manipulates images to present research findings (eg uses a concept map, visual text, statistics, chart, electronic slide show) [T] [C] [KC1] [KC2]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awareness of audience (eg identifies the target audience for magazines, discussing layout, format, photographs, stereotyping). [Id] [T] [KC1]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eg with visiting authors, selecting magazines, books/videos in a shop) [T]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in a variety of ways (eg discusses the topic, produces a report, compiles interview questions) [Id] [T]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esents research findings on diverse futures perspectives (eg in a webpage, report, article) [F] [In] [T]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the issue and the texts explored through an examination of underlying values (eg compares and analyses perspectives about an Aboriginal issue reported in commercial media compared to public and Aboriginal media). [Id] [T] [KC1]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ngages in the reading/viewing process in a variety of ways (eg views films and videos that contain challenging issues, performs with peers, reads and comments on billboards in the community) [In]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in a variety of ways (eg compares texts set in different times and places, accounting for similarities and differences; researches to compare fictional and factual accounts) [In] [T] [C] [KC2]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esents research findings (eg grids, charts or interactive simulation formats for comparative displays) [C] [KC1] [KC2] [KC5]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the issue and the texts explored (eg by comparing and evaluating for bias or stereotyping). [T] [C]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Texts and Contexts</a:t>
            </a:r>
            <a:endParaRPr b="0" lang="en-US" sz="2400" spc="-1" strike="noStrike">
              <a:solidFill>
                <a:srgbClr val="000000"/>
              </a:solidFill>
              <a:latin typeface="Arial"/>
            </a:endParaRPr>
          </a:p>
        </p:txBody>
      </p:sp>
      <p:graphicFrame>
        <p:nvGraphicFramePr>
          <p:cNvPr id="329" name=""/>
          <p:cNvGraphicFramePr/>
          <p:nvPr/>
        </p:nvGraphicFramePr>
        <p:xfrm>
          <a:off x="263520" y="1268280"/>
          <a:ext cx="8556480" cy="5062680"/>
        </p:xfrm>
        <a:graphic>
          <a:graphicData uri="http://schemas.openxmlformats.org/drawingml/2006/table">
            <a:tbl>
              <a:tblPr/>
              <a:tblGrid>
                <a:gridCol w="2852640"/>
                <a:gridCol w="2851200"/>
                <a:gridCol w="285264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0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 Composes a range of texts that include ideas and information about familiar and some unfamiliar topics and applies an understanding of audience, purpose and context.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4 Composes a range of texts that include detailed information and explore different perspectives about a range of issues and adjusts texts for particular audiences, purposes and context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4 Composes a range of texts that include detailed information and explore different perspectives about diverse topics or issues and adjusts the text to produce an intended effect upon the audience.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65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xamines purposes for writing (eg to persuade an audience to buy a product)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constructs and communicates texts appropriately (eg an argument stating the issue, presenting a position and making recommendations) [T]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xt (eg discusses whether an advertisement would still retain its integrity if the age, gender, culture of the characters were changed) [Id]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a range of software applications in planning, drafting, editing and presenting texts (eg uses a word processor to construct a letter to the editor) [C] [KC2] [KC3]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s (eg keeps a record of the kinds of texts written, the audience and the purpose, to ensure variety). [Id]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scribes the purpose for writing (eg discusses similarities and differences in texts with the same theme)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constructs texts appropriately (eg a research report with material relevant to the topic, diagrams, statistical representations, appropriate organisation and presentation) [T]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nt (eg attracts audience attention through dramatic effect when setting the scene for a mystery)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an electronic product with more sophisticated use of text, graphics and audio (eg e-mail to construct a letter to the editor, software to interpret and represent data)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s (eg editor uses a checklist for editing).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the purpose for writing (eg an argument in relation to the positive and negative aspects of an issue)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appropriate digital and animation products (eg includes digital photographs in a report)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onstructs the text (eg a biography with accurate information and appropriate planning and organisation)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critical understanding of purpose, audience and context (eg a science fiction story which alters stereotypical roles to suit a particular audience)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written text (eg incorporates group feedback). [T] [C]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400" spc="-1" strike="noStrike">
                <a:solidFill>
                  <a:srgbClr val="000000"/>
                </a:solidFill>
                <a:latin typeface="Arial"/>
              </a:rPr>
              <a:t>Language</a:t>
            </a:r>
            <a:endParaRPr b="0" lang="en-US" sz="2400" spc="-1" strike="noStrike">
              <a:solidFill>
                <a:srgbClr val="000000"/>
              </a:solidFill>
              <a:latin typeface="Arial"/>
            </a:endParaRPr>
          </a:p>
        </p:txBody>
      </p:sp>
      <p:graphicFrame>
        <p:nvGraphicFramePr>
          <p:cNvPr id="331" name=""/>
          <p:cNvGraphicFramePr/>
          <p:nvPr/>
        </p:nvGraphicFramePr>
        <p:xfrm>
          <a:off x="324000" y="1197000"/>
          <a:ext cx="8496000" cy="517212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 Selects and uses most aspects of language when producing a variety of spoken texts appropriate for a wide range of school and community audience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6 Controls and adjusts most aspects of language when producing a variety of spoken texts for a wider range of school and appropriate community audience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6 Manipulates language when producing a variety of spoken texts appropriate for an extended range of school and community audienc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social contexts (eg can compare the language in a play from an earlier period in time with language used today) [I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can take turns at the appropriate time in a script) [T]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tape records instructions for a game)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eg when referring to a friend can use a metaphor such as ‘She is an angel’) [Id]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uses posture, facial expression and gesture to engage the listener in a role-play) [C]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contexts (eg introduces themselves to a new class member, may say ‘Hi, my name is …’, but when introducing new student to class in a prepared biographical introduction, may say ‘Good morning everyone, I would like to introduce …’)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uses appropriate cues to begin and finish speech/report to class in a group task/panel presentation)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reports to another group in a jigsaw or envoy task, produces a multimedia presentation for students starting Year 8/new to the school about transition issues or a survival guide)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eg describes a product or community organisation in a positive way using personification-a telephone as a lifeline, the genre that binds society/helping hand) [In]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uses rhythm, pace, gestures, emphasis, pauses to present a dramatic reading of a ballad). [C]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language appropriately in different contexts (eg addresses a class group in order to introduce a guest speaker, and invites questions afterwards before concluding with a vote of thanks) [In]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he organisation of spoken texts (eg clarifies a required spoken task by summarising and restating in own words what the task involves)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vocabulary to express feelings and attitudes, ideas and information (eg uses idioms such as ‘pull yourself together’, ‘don’t let it get you down’, ‘just do it’ in a mock conversation ‘pep talk’ with themselves, and compares with the way a team captain or a public figure may address a group) [Id]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uses expressive aspects of oral language (eg in a dramatic reading of a text, uses eye contact, pause, variation of tone and voice to engage audience interes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develops interactive chatrooms, interviews other students on a topical school or community issue, and reports conclusions to a principal in an interview or makes a telephone call to a community leader). [In] [C] [KC2] [KC7]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3" name=""/>
          <p:cNvGraphicFramePr/>
          <p:nvPr/>
        </p:nvGraphicFramePr>
        <p:xfrm>
          <a:off x="324000" y="1197000"/>
          <a:ext cx="8496000" cy="47196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7 Identifies and analyses features of written language and visual images when reading and viewing independently, a range of texts about familiar and unfamiliar topic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7 Analyses and evaluates features of written texts and visual images when reading and viewing independently a range of texts dealing with more complex themes and issue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7 Identifies and critically appraises combinations of features in texts when reading and viewing a broad range of texts dealing with abstract themes and socio-cultural valu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49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used in different social contexts (eg distinguishes between technical nouns in reports and abstract nouns in expositions) [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multimodal texts (eg discusses the interaction of visual images and written text in magazine advertisements) [T] [C]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dentifies and interprets grammatical resources in written texts (eg the way verbs and verb groups can be used to describe the thoughts and feelings of characters in stories)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and uses expressive aspects of language (eg reads short stories expressively drawing on punctuation marks such as commas, colons and speech marks). [T] [C]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eg identifies different choices and strategies for event sequences, nominalisation and speech representation in news items from different media) [KC1]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itically analyses multimodal texts (eg identifies features such as camera angles and shot size in film segments, and discusses their effect on viewer positioning) [T] [C] [KC1]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dentifies and interprets grammatical resources in written texts (eg discusses the effect of choices for modality such as ‘may’ vs ‘will’ in creation of point of view in argumentative essays)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expressive aspects of language (eg reads dialogue in scripted plays expressively by varying pace, volume and intonation). [In] [C]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a:t>
                      </a:r>
                      <a:r>
                        <a:rPr b="0" lang="en-AU" sz="900" spc="-1" strike="noStrike">
                          <a:solidFill>
                            <a:srgbClr val="000000"/>
                          </a:solidFill>
                          <a:latin typeface="Calibri"/>
                        </a:rPr>
                        <a: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gnises a variety of language choices in texts (eg discusses the representation of non-standard and standard Australian English in scripted drama, novels and short stories with abstract themes, diverse values and from different eras) [F] [In]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ultimodal texts (eg evaluates effectiveness of choice and placement of images and verbal text in webpages) [T] [C] [KC1]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text organisation (eg discusses patterns of layout and language use in tourist brochures, news reports and procedures) [C]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nalyses and interprets grammatical resources in written texts (eg discusses a writer’s use of nominalisation to suggest that a viewpoint is definitive) [T]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sponds to expressive aspects of language (eg reads scripted drama expressively to create characterisation through voice quality, rhythm, pace, volume and intonation).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5" name=""/>
          <p:cNvGraphicFramePr/>
          <p:nvPr/>
        </p:nvGraphicFramePr>
        <p:xfrm>
          <a:off x="324000" y="1197000"/>
          <a:ext cx="8496000" cy="40878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8 Selects and uses a variety of language aspects when planning and composing a range of well-structured fiction, factual and media texts about familiar, new and possible experience.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8 Controls and adjusts most aspects of language when planning and composing an extensive range of written and multimedia texts on different themes and issues. [T] [C] [KC3] [KC7]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 Manipulates and critically appraises language choices when planning and composing a comprehensive range of texts dealing with abstract themes and cultural value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uses a variety of language choices in texts (eg uses direct and indirect speech in a news item to source information, and reorders the sequence of events to give prominence to the crisis) [T] [C] [KC2]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designs a webpage for an environmental group)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and uses understanding of expressive aspects of language (eg identifies strategies for forming words in English - base and affixes different patterns of inflection of words in English). [T] [C]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lans and employs a variety of language choices in texts (eg uses direct and indirect speech appropriately in narratives and news reports) [C] [KC3]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creates multimodal texts (eg designs and evaluates magazine advertisements using knowledge of features such as layout, composition and colour) [C] [KC6]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and uses understanding of expressive aspects of language (eg uses accurately technical words derived from ancient Latin and Greek) [T] [C]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velops their process for the collection and documentation of evidence that identifies personal skills, abilities and attributes. [Id] [KC1] [KC2]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and uses a variety of language choices in texts (eg scripts dialogue for a television drama about young people, drawing on knowledge of different styles and accents in Australian English) [In] [C] [KC6]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produces multimodal texts (eg plans and produces a script for a television, radio or stage play; creates an interactive webpage) [C] [KC2] [KC3] [KC7]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demonstrates understanding of expressive aspects of language (eg employs appropriate prose rhythms in different genres-natural prose rhythms in a first person narrative, up-beat rhythms in a popular music program). [C]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rst some </a:t>
            </a:r>
            <a:r>
              <a:rPr b="1" lang="en-AU" sz="2800" spc="-1" strike="noStrike">
                <a:solidFill>
                  <a:srgbClr val="ff0066"/>
                </a:solidFill>
                <a:latin typeface="Arial"/>
              </a:rPr>
              <a:t>Etymology</a:t>
            </a:r>
            <a:r>
              <a:rPr b="1" lang="en-AU" sz="2800" spc="-1" strike="noStrike" u="sng">
                <a:solidFill>
                  <a:srgbClr val="ff0066"/>
                </a:solidFill>
                <a:uFillTx/>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558f7d"/>
                </a:solidFill>
                <a:latin typeface="Arial"/>
              </a:rPr>
              <a:t>(Etymology is the study of the history of words, their origins, and how their form and meaning have changed over time)</a:t>
            </a:r>
            <a:r>
              <a:rPr b="0" lang="en-AU"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d you know that</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word originates from Greek — </a:t>
            </a:r>
            <a:r>
              <a:rPr b="1" i="1" lang="en-AU" sz="2800" spc="-1" strike="noStrike">
                <a:solidFill>
                  <a:srgbClr val="000000"/>
                </a:solidFill>
                <a:latin typeface="Arial"/>
              </a:rPr>
              <a:t>graphein</a:t>
            </a:r>
            <a:r>
              <a:rPr b="1" lang="en-AU" sz="2800" spc="-1" strike="noStrike">
                <a:solidFill>
                  <a:srgbClr val="000000"/>
                </a:solidFill>
                <a:latin typeface="Arial"/>
              </a:rPr>
              <a:t> — meaning "to writ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raffiti and graffito are from the Italian word </a:t>
            </a:r>
            <a:r>
              <a:rPr b="1" i="1" lang="en-AU" sz="2800" spc="-1" strike="noStrike">
                <a:solidFill>
                  <a:srgbClr val="000000"/>
                </a:solidFill>
                <a:latin typeface="Arial"/>
              </a:rPr>
              <a:t>graffiato</a:t>
            </a:r>
            <a:r>
              <a:rPr b="1" lang="en-AU" sz="2800" spc="-1" strike="noStrike">
                <a:solidFill>
                  <a:srgbClr val="000000"/>
                </a:solidFill>
                <a:latin typeface="Arial"/>
              </a:rPr>
              <a:t> ("scratched").</a:t>
            </a:r>
            <a:r>
              <a:rPr b="0" lang="en-AU"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SA Outcomes:</a:t>
            </a:r>
            <a:br>
              <a:rPr sz="4400"/>
            </a:br>
            <a:r>
              <a:rPr b="0" lang="en-US" sz="2000" spc="-1" strike="noStrike">
                <a:solidFill>
                  <a:srgbClr val="000000"/>
                </a:solidFill>
                <a:latin typeface="Arial"/>
              </a:rPr>
              <a:t>Language</a:t>
            </a:r>
            <a:endParaRPr b="0" lang="en-US" sz="2000" spc="-1" strike="noStrike">
              <a:solidFill>
                <a:srgbClr val="000000"/>
              </a:solidFill>
              <a:latin typeface="Arial"/>
            </a:endParaRPr>
          </a:p>
        </p:txBody>
      </p:sp>
      <p:graphicFrame>
        <p:nvGraphicFramePr>
          <p:cNvPr id="337" name=""/>
          <p:cNvGraphicFramePr/>
          <p:nvPr/>
        </p:nvGraphicFramePr>
        <p:xfrm>
          <a:off x="324000" y="1197000"/>
          <a:ext cx="8496000" cy="4087800"/>
        </p:xfrm>
        <a:graphic>
          <a:graphicData uri="http://schemas.openxmlformats.org/drawingml/2006/table">
            <a:tbl>
              <a:tblPr/>
              <a:tblGrid>
                <a:gridCol w="2832120"/>
                <a:gridCol w="2831760"/>
                <a:gridCol w="283212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1 Selects and uses a variety of strategies for locating and recording information and for reading, viewing and critically interpreting a range of written and visual texts. [F] [Id] [T] [C] [KC1] [KC2]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1 Controls, adjusts and compares a variety of strategies for locating and recording information and for reading, viewing and critically interpreting written and visual texts for specific purposes. [T] [C] [KC1] [KC2]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11 Manipulates and synthesises a wide variety of strategies for reading, viewing, critically interpreting and reflecting on texts with multiple levels of meaning. [T] [C] [KC1]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appropriately (eg based on personal interest, author, topic, vocabulary) [Id]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substantiates predictions, reads on when dealing with difficult passage, substitutes familiar words) [T]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keeps a personal journal, gives ratings for films and videos)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trategically evaluates usefulness of information sources (eg uses an author’s webpage to evaluate information about becoming an editor). [F] [T] [KC1] [KC6]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for analysis and comparison (eg television programs such as quiz shows, news, travel, soaps) [Id] [In] [C]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extracts information from databases and statistical tables, automatically self-corrects, uses knowledge about setting to understand themes) [T]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reviews sections of texts, discusses findings, keeps a reading log)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usefulness of information sources and strategies for collecting information (eg uses Electronic Library to evaluate information about employment). [F]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Calibri"/>
                        </a:rPr>
                        <a:t>Examples of evidence include that the student: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selects texts appropriately (eg uses library database, recommendations from peers and teacher) [KC1]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interprets meaning (eg skim reads, refers to dictionary, discusses with another person, re-reads/reviews sections, compares and interrogates texts, questions views) [C]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records and organises information (eg keeps a journal to record different meanings of text, makes notes and lists, bookmarks sections for review) [C] [KC1] [KC2] </a:t>
                      </a:r>
                      <a:endParaRPr b="0" lang="en-US" sz="900" spc="-1" strike="noStrike">
                        <a:solidFill>
                          <a:srgbClr val="000000"/>
                        </a:solidFill>
                        <a:latin typeface="Arial"/>
                      </a:endParaRPr>
                    </a:p>
                    <a:p>
                      <a:pPr>
                        <a:lnSpc>
                          <a:spcPct val="10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evaluates usefulness of electronic information sources. [T] [KC1]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63520" y="1598760"/>
            <a:ext cx="7386480" cy="4497120"/>
          </a:xfrm>
          <a:prstGeom prst="rect">
            <a:avLst/>
          </a:prstGeom>
          <a:ln w="0">
            <a:noFill/>
          </a:ln>
        </p:spPr>
      </p:pic>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
        <p:nvSpPr>
          <p:cNvPr id="244" name=""/>
          <p:cNvSpPr/>
          <p:nvPr/>
        </p:nvSpPr>
        <p:spPr>
          <a:xfrm>
            <a:off x="468360" y="623736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lang="en-US" sz="800" spc="-1" strike="noStrike" u="sng">
                <a:solidFill>
                  <a:srgbClr val="c1c177"/>
                </a:solidFill>
                <a:uFillTx/>
                <a:latin typeface="Arial"/>
                <a:hlinkClick r:id="rId2"/>
              </a:rPr>
              <a:t>http://newsletter.kokodatreks.com/007-january_2008.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95280" y="1196640"/>
            <a:ext cx="706752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ome Hi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ustralia, Aboriginal people practised a type of graffiti, known as rock painting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aintings were a form of communication to tell their stor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aintings were etched in the rock with a tool, others were created using paints made from plants and types of minerals found in rocks.  </a:t>
            </a:r>
            <a:endParaRPr b="0" lang="en-US" sz="3200" spc="-1" strike="noStrike">
              <a:solidFill>
                <a:srgbClr val="000000"/>
              </a:solidFill>
              <a:latin typeface="Arial"/>
            </a:endParaRPr>
          </a:p>
        </p:txBody>
      </p:sp>
      <p:sp>
        <p:nvSpPr>
          <p:cNvPr id="246"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48" name="" descr=""/>
          <p:cNvPicPr/>
          <p:nvPr/>
        </p:nvPicPr>
        <p:blipFill>
          <a:blip r:embed="rId1"/>
          <a:stretch/>
        </p:blipFill>
        <p:spPr>
          <a:xfrm>
            <a:off x="263520" y="1598760"/>
            <a:ext cx="7386480" cy="4497120"/>
          </a:xfrm>
          <a:prstGeom prst="rect">
            <a:avLst/>
          </a:prstGeom>
          <a:ln w="0">
            <a:noFill/>
          </a:ln>
        </p:spPr>
      </p:pic>
      <p:sp>
        <p:nvSpPr>
          <p:cNvPr id="249" name=""/>
          <p:cNvSpPr/>
          <p:nvPr/>
        </p:nvSpPr>
        <p:spPr>
          <a:xfrm>
            <a:off x="611280" y="6370560"/>
            <a:ext cx="7777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graffiti-art-on-trains.blogspot.com/2009/06/5-pointz.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Modern day:</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ay paint, normal paint and markers have become the most commonly used materials in the art of Graffiti. </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ountries, defacing property with graffiti without the property owner's consent is considered vandalism, which is punishable by law. </a:t>
            </a:r>
            <a:endParaRPr b="0" lang="en-US" sz="3200" spc="-1" strike="noStrike">
              <a:solidFill>
                <a:srgbClr val="000000"/>
              </a:solidFill>
              <a:latin typeface="Arial"/>
            </a:endParaRPr>
          </a:p>
        </p:txBody>
      </p:sp>
      <p:sp>
        <p:nvSpPr>
          <p:cNvPr id="25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some articles about graffiti:</a:t>
            </a:r>
            <a:endParaRPr b="0" lang="en-US" sz="3200" spc="-1" strike="noStrike">
              <a:solidFill>
                <a:srgbClr val="0000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fiti Hurts</a:t>
            </a:r>
            <a:endParaRPr b="0" lang="en-US" sz="28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on Reckless Graffiti</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Graffiti – Art or Vandalism? </a:t>
            </a:r>
            <a:endParaRPr b="0" lang="en-US" sz="4000" spc="-1" strike="noStrike">
              <a:solidFill>
                <a:srgbClr val="30605a"/>
              </a:solidFill>
              <a:latin typeface="Arial"/>
            </a:endParaRPr>
          </a:p>
        </p:txBody>
      </p:sp>
      <p:pic>
        <p:nvPicPr>
          <p:cNvPr id="254" name="" descr=""/>
          <p:cNvPicPr/>
          <p:nvPr/>
        </p:nvPicPr>
        <p:blipFill>
          <a:blip r:embed="rId3"/>
          <a:stretch/>
        </p:blipFill>
        <p:spPr>
          <a:xfrm>
            <a:off x="755640" y="3933720"/>
            <a:ext cx="1714680" cy="1714680"/>
          </a:xfrm>
          <a:prstGeom prst="rect">
            <a:avLst/>
          </a:prstGeom>
          <a:ln w="0">
            <a:noFill/>
          </a:ln>
        </p:spPr>
      </p:pic>
      <p:sp>
        <p:nvSpPr>
          <p:cNvPr id="255" name=""/>
          <p:cNvSpPr/>
          <p:nvPr/>
        </p:nvSpPr>
        <p:spPr>
          <a:xfrm>
            <a:off x="2627280" y="4005360"/>
            <a:ext cx="4969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with your pe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agree with these articles or not?</a:t>
            </a:r>
            <a:br>
              <a:rPr sz="2400"/>
            </a:br>
            <a:r>
              <a:rPr b="0" lang="en-US" sz="2400" spc="-1" strike="noStrike">
                <a:solidFill>
                  <a:srgbClr val="000000"/>
                </a:solidFill>
                <a:latin typeface="Arial"/>
              </a:rPr>
              <a:t>Justify why you think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04:08:03Z</dcterms:created>
  <dc:creator>YoungJe</dc:creator>
  <dc:description/>
  <dc:language>en-US</dc:language>
  <cp:lastModifiedBy>YoungJe</cp:lastModifiedBy>
  <dcterms:modified xsi:type="dcterms:W3CDTF">2011-07-26T02:04:19Z</dcterms:modified>
  <cp:revision>77</cp:revision>
  <dc:subject/>
  <dc:title>Slide 1</dc:title>
</cp:coreProperties>
</file>